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ED1C-320A-46EF-BB23-9EC85A9BA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C0E7-16D3-4EBD-9697-0A0EBE0CE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8F9C-6EF7-4D1B-9FC0-9A7BC5208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BA9C-8B0A-4B3C-A2D7-A033FFAC3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E4CFB-4ED4-41B2-80FF-0CAF7881F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96FFA-57CE-4EB5-BD3A-99D50A666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FFBEE-BF9E-45E8-AF12-C2F32CE91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ED1AB-31A2-4108-B846-32C00B158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74BC2-DE54-45A2-BC42-DE1532521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60FB8-84C8-454D-9A95-BFB1F1697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B44E3-2D38-4BB3-9BE5-FC7269EB5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7876-F2D5-41D8-BCA1-813765690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438A4-8C46-4D66-95BB-C18CE67B4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8D149-CDD1-443C-A7DF-548C91EE7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B0B6F-0B61-423E-A3F9-17B50A52F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1157B-0D32-44EC-9185-D612EFD61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24DE1-ECF2-47B3-9DA7-1B89ABA97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C2AD-1C33-4AE9-8414-86BE5F4B4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2A99-E8B3-4EE1-9BC1-F4AB5934A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6329-0241-42DD-A098-22A5B2C00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11CE-470C-4C85-A560-967E7D252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244D-6CBE-4295-B18F-5A1E2F383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5833-C429-44D8-9EA4-0DC84D2FB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8604-CE47-462F-A82A-1F40D4AB1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D58E6-9985-412E-A648-E43727AEEAE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AC567-D08A-4CC5-ADCE-C1E312DDA5B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295280" y="685800"/>
            <a:ext cx="647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Virtual Field Trip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219320" y="31240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siting Great Art Museums all over the Wor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066680" y="4038480"/>
            <a:ext cx="1749600" cy="18385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6324480" y="3886200"/>
            <a:ext cx="150192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Google Art Projec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2057400" y="5334120"/>
            <a:ext cx="533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xplore museums from around the world, discover and view hundreds of artworks at incredible zoom level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590920" y="1676520"/>
            <a:ext cx="4343400" cy="31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371600" y="1252440"/>
            <a:ext cx="6477120" cy="4302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553080" y="5486400"/>
            <a:ext cx="22860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eer Gallery of 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mithsoni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ashington D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7162560" y="2819520"/>
            <a:ext cx="228600" cy="2590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895480" y="380880"/>
            <a:ext cx="2971800" cy="1059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O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useum of Modern Ar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ew York C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943600" y="1219320"/>
            <a:ext cx="1447920" cy="1295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5486400" y="2590560"/>
            <a:ext cx="175248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76720" y="2209680"/>
            <a:ext cx="2057400" cy="1059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etropolitan Museum of 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ew York C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095880" y="2514240"/>
            <a:ext cx="1295640" cy="1219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352680" y="3581280"/>
            <a:ext cx="2590920" cy="785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he Frick Colle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ew York C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609560" y="304920"/>
            <a:ext cx="5724720" cy="65530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858000" y="1219320"/>
            <a:ext cx="2286000" cy="707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lte Nationalgale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Berlin, German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4724280" y="1981080"/>
            <a:ext cx="2819520" cy="175284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4647960" y="3581280"/>
            <a:ext cx="2361960" cy="2286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010280" y="2895480"/>
            <a:ext cx="1981440" cy="707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Gemaldegale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Berlin, German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4114800" y="1066680"/>
            <a:ext cx="2666880" cy="266724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24480" y="380880"/>
            <a:ext cx="2362320" cy="707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Van Gogh Museu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msterdam, Holla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3505320"/>
            <a:ext cx="2133720" cy="707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useo Reina Sof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drid, Sp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219320" y="4267080"/>
            <a:ext cx="1447560" cy="152424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1295280"/>
            <a:ext cx="1981080" cy="707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National Gall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London, Engla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23880" y="1981080"/>
            <a:ext cx="1905120" cy="190512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77120" y="4800600"/>
            <a:ext cx="2666880" cy="707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useum Kamp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rague, Czech Republ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4723920" y="4572000"/>
            <a:ext cx="1752840" cy="53352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5029200"/>
            <a:ext cx="1905120" cy="844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useo Thyssen - Bornemisz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adrid, Sp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76520" y="5867280"/>
            <a:ext cx="91440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676520" y="380880"/>
            <a:ext cx="5657760" cy="64771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28600" y="2057400"/>
            <a:ext cx="2209680" cy="707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lace of Versail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Versailles, Fra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0" y="4724280"/>
            <a:ext cx="2362320" cy="6858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600200" y="2743200"/>
            <a:ext cx="1981080" cy="17524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14600" y="1600200"/>
            <a:ext cx="990720" cy="236232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553080" y="685800"/>
            <a:ext cx="381240" cy="25146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6324480" y="2437920"/>
            <a:ext cx="457200" cy="175284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657600" y="1143000"/>
            <a:ext cx="304920" cy="27432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971800" y="457200"/>
            <a:ext cx="2286000" cy="707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Rijksmuseu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msterdam, Holla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914400"/>
            <a:ext cx="1981440" cy="707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ate Brit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London, Engla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943600" y="0"/>
            <a:ext cx="3200400" cy="707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he State Tretyakov Gall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oscow, Russ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4920" y="4267080"/>
            <a:ext cx="1981080" cy="707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Uffizi Gall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lorence, Ital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867280" y="4191120"/>
            <a:ext cx="3276720" cy="707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he State Hermitage Museu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t. Petersburg, Russ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9T23:02:54Z</dcterms:created>
  <dc:creator>Patrick J. Mooney</dc:creator>
  <dc:description/>
  <dc:language>en-US</dc:language>
  <cp:lastModifiedBy>Patrick J. Mooney</cp:lastModifiedBy>
  <dcterms:modified xsi:type="dcterms:W3CDTF">2011-10-17T02:53:03Z</dcterms:modified>
  <cp:revision>14</cp:revision>
  <dc:subject/>
  <dc:title>Slide 1</dc:title>
</cp:coreProperties>
</file>